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A3D1-2D10-40FC-86C9-9DAA2FED6907}" type="slidenum">
              <a:rPr b="1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9EEA-C1C2-43FD-BAF4-72F1DEA95AFE}" type="slidenum">
              <a:rPr b="1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ndociees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VASN731108/Mis%20documentos/utvm/Rubricas/rubrica%20exposicion.doc" TargetMode="External"/><Relationship Id="rId2" Type="http://schemas.openxmlformats.org/officeDocument/2006/relationships/hyperlink" Target="file:///C:/Documents%20and%20Settings/VASN731108/Mis%20documentos/utvm/Rubricas/rubrica%20exposicion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6877080" y="6381720"/>
            <a:ext cx="216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" sz="1000" spc="-1" strike="noStrike">
                <a:solidFill>
                  <a:srgbClr val="ff6600"/>
                </a:solidFill>
                <a:latin typeface="Arial Rounded MT Bold"/>
              </a:rPr>
              <a:t> </a:t>
            </a:r>
            <a:r>
              <a:rPr b="0" lang="es-ES" sz="1000" spc="-1" strike="noStrike">
                <a:solidFill>
                  <a:srgbClr val="ff6600"/>
                </a:solidFill>
                <a:latin typeface="Arial Rounded MT Bold"/>
              </a:rPr>
              <a:t>octubre 200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63640" y="2781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cc00"/>
                </a:solidFill>
                <a:latin typeface="Berlin Sans FB Demi"/>
              </a:rPr>
              <a:t>Universidad Tecnológica del Valle del Mezqu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619280" y="3357720"/>
            <a:ext cx="71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800000"/>
                </a:solidFill>
                <a:latin typeface="Arial Rounded MT Bold"/>
              </a:rPr>
              <a:t>Taller sobre rúbric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3059280" y="3284640"/>
            <a:ext cx="42480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8"/>
          <p:cNvGraphicFramePr/>
          <p:nvPr/>
        </p:nvGraphicFramePr>
        <p:xfrm>
          <a:off x="6516720" y="452520"/>
          <a:ext cx="1871640" cy="12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52520"/>
                    <a:ext cx="187164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6 CuadroTexto"/>
          <p:cNvSpPr/>
          <p:nvPr/>
        </p:nvSpPr>
        <p:spPr>
          <a:xfrm>
            <a:off x="2643120" y="4648320"/>
            <a:ext cx="6286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nalfabetas del futuro no son los que no sabe leer ni escribir si no los que no pueden aprender, olvidar y volver a aprender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lvin Toff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Que son las rú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85600" y="160020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UNA DESCRIPCIÓN DE LOS CRITERIOS UTILIZADOS PARA PASAR JUICIO SOBRE LA EJECUTORIA DEL ESTUDIANTE EN ALGÚN TRABAJO O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DA CRITERIO TIENE UN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os tipos de rúb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56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úbrica ana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DENTIFICA Y FACILITA EL AVALÚO DE LOS COMPONENTES DE UN TRABAJO O PROYECTO FIN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úbrica hol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ACILITA EL AVALÚO DEL TRABAJO COMPLETO REALIZADO POR EL ESTUDI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: Rúbrica anal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28880" y="16002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la siguiente liga encontrarás un formato que se utiliza para evaluar exposición por parte de los alumnos dentro de un salón de c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úbrica para </a:t>
            </a:r>
            <a:r>
              <a:rPr b="0" lang="es-MX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xpos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: rúbrica holís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la siguiente liga encontrarás un examen parcial en donde se utiliza una rúbrica de tipo hol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amen parcial con rúb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ue necesito para elaborar una rúb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85600" y="160020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1. Saber cuáles son los resultados de aprendizaje (learning outcomes) que espera obtener de sus estudiantes en el trabajo/proyec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2. Saber a qué nivel/es de procesamiento habrán de demostrarl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¿Memorizand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¿Comprendiend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¿Aplicando?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Taxonomía Blo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¿Analizand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¿Sintetizand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¿Evaluand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mportante recor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sarrollar es 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rganizar es 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plicar es Compr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5"/>
          <p:cNvSpPr/>
          <p:nvPr/>
        </p:nvSpPr>
        <p:spPr>
          <a:xfrm>
            <a:off x="2392200" y="808200"/>
            <a:ext cx="18734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tablecer la activid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960560" y="2752560"/>
            <a:ext cx="187308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finir objetivo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aprendizaj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320920" y="1455840"/>
            <a:ext cx="1295280" cy="10810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 adap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ra rúbrica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2033640" y="3471840"/>
            <a:ext cx="187308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scribir los pas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a activid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1960560" y="4264200"/>
            <a:ext cx="187308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tablecer los producto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a activid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2033640" y="5129280"/>
            <a:ext cx="2016000" cy="574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tablecer los criterios 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racterísticas del produc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 evalu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2"/>
          <p:cNvCxnSpPr>
            <a:stCxn id="63" idx="2"/>
            <a:endCxn id="65" idx="0"/>
          </p:cNvCxnSpPr>
          <p:nvPr/>
        </p:nvCxnSpPr>
        <p:spPr>
          <a:xfrm flipH="1">
            <a:off x="2967840" y="1239840"/>
            <a:ext cx="36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AutoShape 13"/>
          <p:cNvSpPr/>
          <p:nvPr/>
        </p:nvSpPr>
        <p:spPr>
          <a:xfrm>
            <a:off x="2897280" y="5992920"/>
            <a:ext cx="187308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tablecer nivele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calid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5859360" y="2787480"/>
            <a:ext cx="187344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tablecer la escal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 peso para cada ni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calid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/>
          <p:cNvSpPr/>
          <p:nvPr/>
        </p:nvSpPr>
        <p:spPr>
          <a:xfrm>
            <a:off x="4264200" y="1816200"/>
            <a:ext cx="187308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tra forma de evalu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16"/>
          <p:cNvCxnSpPr>
            <a:stCxn id="65" idx="2"/>
            <a:endCxn id="64" idx="0"/>
          </p:cNvCxnSpPr>
          <p:nvPr/>
        </p:nvCxnSpPr>
        <p:spPr>
          <a:xfrm flipH="1">
            <a:off x="2896920" y="2536560"/>
            <a:ext cx="720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7"/>
          <p:cNvCxnSpPr>
            <a:stCxn id="64" idx="2"/>
            <a:endCxn id="66" idx="0"/>
          </p:cNvCxnSpPr>
          <p:nvPr/>
        </p:nvCxnSpPr>
        <p:spPr>
          <a:xfrm>
            <a:off x="2896920" y="3184560"/>
            <a:ext cx="73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8"/>
          <p:cNvCxnSpPr>
            <a:stCxn id="66" idx="2"/>
            <a:endCxn id="67" idx="0"/>
          </p:cNvCxnSpPr>
          <p:nvPr/>
        </p:nvCxnSpPr>
        <p:spPr>
          <a:xfrm flipH="1">
            <a:off x="2896560" y="3903480"/>
            <a:ext cx="73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19"/>
          <p:cNvCxnSpPr>
            <a:stCxn id="67" idx="2"/>
            <a:endCxn id="68" idx="0"/>
          </p:cNvCxnSpPr>
          <p:nvPr/>
        </p:nvCxnSpPr>
        <p:spPr>
          <a:xfrm>
            <a:off x="2896920" y="4695840"/>
            <a:ext cx="14472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20"/>
          <p:cNvCxnSpPr>
            <a:stCxn id="68" idx="2"/>
            <a:endCxn id="70" idx="0"/>
          </p:cNvCxnSpPr>
          <p:nvPr/>
        </p:nvCxnSpPr>
        <p:spPr>
          <a:xfrm>
            <a:off x="3041640" y="5703480"/>
            <a:ext cx="792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AutoShape 21"/>
          <p:cNvSpPr/>
          <p:nvPr/>
        </p:nvSpPr>
        <p:spPr>
          <a:xfrm>
            <a:off x="5095800" y="6356520"/>
            <a:ext cx="287280" cy="287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2"/>
          <p:cNvSpPr/>
          <p:nvPr/>
        </p:nvSpPr>
        <p:spPr>
          <a:xfrm>
            <a:off x="6507000" y="1995480"/>
            <a:ext cx="287640" cy="287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23"/>
          <p:cNvCxnSpPr/>
          <p:nvPr/>
        </p:nvCxnSpPr>
        <p:spPr>
          <a:xfrm>
            <a:off x="4524120" y="6427800"/>
            <a:ext cx="57204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24"/>
          <p:cNvCxnSpPr>
            <a:stCxn id="79" idx="4"/>
            <a:endCxn id="71" idx="0"/>
          </p:cNvCxnSpPr>
          <p:nvPr/>
        </p:nvCxnSpPr>
        <p:spPr>
          <a:xfrm>
            <a:off x="6651360" y="2282760"/>
            <a:ext cx="1447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25"/>
          <p:cNvCxnSpPr>
            <a:stCxn id="65" idx="3"/>
            <a:endCxn id="72" idx="1"/>
          </p:cNvCxnSpPr>
          <p:nvPr/>
        </p:nvCxnSpPr>
        <p:spPr>
          <a:xfrm>
            <a:off x="3616200" y="1996560"/>
            <a:ext cx="6483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AutoShape 26"/>
          <p:cNvSpPr/>
          <p:nvPr/>
        </p:nvSpPr>
        <p:spPr>
          <a:xfrm>
            <a:off x="2392200" y="185760"/>
            <a:ext cx="1729080" cy="404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27"/>
          <p:cNvCxnSpPr>
            <a:stCxn id="83" idx="2"/>
            <a:endCxn id="63" idx="0"/>
          </p:cNvCxnSpPr>
          <p:nvPr/>
        </p:nvCxnSpPr>
        <p:spPr>
          <a:xfrm>
            <a:off x="3257640" y="590040"/>
            <a:ext cx="7200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Text Box 28"/>
          <p:cNvSpPr/>
          <p:nvPr/>
        </p:nvSpPr>
        <p:spPr>
          <a:xfrm>
            <a:off x="2886480" y="2390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749400" y="19591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0"/>
          <p:cNvSpPr/>
          <p:nvPr/>
        </p:nvSpPr>
        <p:spPr>
          <a:xfrm>
            <a:off x="6146640" y="4011480"/>
            <a:ext cx="1729080" cy="405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31"/>
          <p:cNvCxnSpPr>
            <a:stCxn id="71" idx="2"/>
            <a:endCxn id="87" idx="0"/>
          </p:cNvCxnSpPr>
          <p:nvPr/>
        </p:nvCxnSpPr>
        <p:spPr>
          <a:xfrm>
            <a:off x="6796080" y="3506760"/>
            <a:ext cx="2167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 Box 32"/>
          <p:cNvSpPr/>
          <p:nvPr/>
        </p:nvSpPr>
        <p:spPr>
          <a:xfrm>
            <a:off x="4336920" y="446040"/>
            <a:ext cx="2664000" cy="45900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es recomendamos como paso previa, definir el curso y el tema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3"/>
          <p:cNvSpPr/>
          <p:nvPr/>
        </p:nvSpPr>
        <p:spPr>
          <a:xfrm flipH="1">
            <a:off x="3184200" y="6620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4"/>
          <p:cNvSpPr/>
          <p:nvPr/>
        </p:nvSpPr>
        <p:spPr>
          <a:xfrm>
            <a:off x="5715000" y="4732200"/>
            <a:ext cx="2714760" cy="137160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es recomendamos hacer un borrador de dicha rúbrica, mostrarla a expertos en el tema, modificarla con las sugerencias obtenidas y al presentarla a los alumnos, proveer ejemplos para hacerlo más gráfico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5"/>
          <p:cNvSpPr/>
          <p:nvPr/>
        </p:nvSpPr>
        <p:spPr>
          <a:xfrm>
            <a:off x="7010280" y="4444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4265640" y="3543480"/>
            <a:ext cx="1081080" cy="276480"/>
          </a:xfrm>
          <a:prstGeom prst="rect">
            <a:avLst/>
          </a:prstGeom>
          <a:solidFill>
            <a:srgbClr val="6699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Buena idea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7"/>
          <p:cNvSpPr/>
          <p:nvPr/>
        </p:nvSpPr>
        <p:spPr>
          <a:xfrm flipH="1">
            <a:off x="3904920" y="36147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igas interes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jemplos de rubricas de diferentes mat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ttp://cetemhost.uprag.edu/prof/avaluo/Rubric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tal para crear rubricas en linea y poder acceder a ellas desde cualquier p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ttp://rubistar.4teachers.org/index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rticulo completo con información sobre ru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ttp://www.eduteka.org/MatrizValoracion.ph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ción en power point que nos da un marco de referencia muy cl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ttp://www.uprm.edu/ideal/rubricas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4:02:32Z</dcterms:created>
  <dc:creator>UTVM</dc:creator>
  <dc:description/>
  <dc:language>en-US</dc:language>
  <cp:lastModifiedBy>Neftali</cp:lastModifiedBy>
  <dcterms:modified xsi:type="dcterms:W3CDTF">2007-10-08T21:53:45Z</dcterms:modified>
  <cp:revision>214</cp:revision>
  <dc:subject/>
  <dc:title>Diapositiva 1</dc:title>
</cp:coreProperties>
</file>