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1D6-71FD-4C31-946F-9B1317EB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555-DEE0-4269-9550-40F9D408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AEA-0138-4948-B4FE-C10C7FFC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818-23F7-4C04-8528-1397FE03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A370-6D0C-465D-B270-5D29D4B6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F23E-1E83-4FC7-A6AB-1404D39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74A0-750F-451C-A76B-4772A655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1074-4137-4076-B787-019A4B2F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51DD-608E-477B-842F-712C3F70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3816-7402-475F-A42F-1122F5B2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6D57-F66F-411F-95B0-55DDF96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A98-1134-4198-BFEB-58C5BA4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0A05-6F25-4926-BB33-EE5E8E7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D437-C39D-4D6D-9C05-C4E420B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2F0E-0478-4B9F-BAA5-CEE3827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D84-BCFF-4FD3-920C-757B4F85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4634-D4F8-47FB-9701-41EA0376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3A3-64A0-4F8B-971B-0430620B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C22-AC3F-4B5D-BE79-B65F4F9F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553-D694-46BE-BE03-D0E182C4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449-5099-4999-8594-115B709A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060-FCCA-4CEF-9132-AA3A288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534-80C3-46B9-8DBB-EA741741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C5D-2010-4629-AFF4-48388D38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689-72CF-435C-AAEE-102AB53E64F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4827-8D59-48C4-BA7D-9E6E8B66E515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est_profesional.pps" TargetMode="External"/><Relationship Id="rId2" Type="http://schemas.openxmlformats.org/officeDocument/2006/relationships/hyperlink" Target="file:///test_profesional.pps" TargetMode="External"/><Relationship Id="rId3" Type="http://schemas.openxmlformats.org/officeDocument/2006/relationships/hyperlink" Target="file:///test_profesional.pps" TargetMode="External"/><Relationship Id="rId4" Type="http://schemas.openxmlformats.org/officeDocument/2006/relationships/hyperlink" Target="file:///test_profesional.pps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Bienven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1773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Neftali Valencia Sala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NiceTry"/>
          <p:cNvPicPr/>
          <p:nvPr/>
        </p:nvPicPr>
        <p:blipFill>
          <a:blip r:embed="rId1"/>
          <a:stretch/>
        </p:blipFill>
        <p:spPr>
          <a:xfrm>
            <a:off x="179280" y="2992320"/>
            <a:ext cx="85694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or último, el exa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ebes aprobarlo para permane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aquí en 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Universidad Tecnológ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del Valle del Mezqu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ara empez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No te sientas solo, si así te sientes envíame un mensa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nvalencia@utvm.edu.m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computadora en isla"/>
          <p:cNvPicPr/>
          <p:nvPr/>
        </p:nvPicPr>
        <p:blipFill>
          <a:blip r:embed="rId1"/>
          <a:stretch/>
        </p:blipFill>
        <p:spPr>
          <a:xfrm>
            <a:off x="4716360" y="1197000"/>
            <a:ext cx="3764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Mi presen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Me gusta que me digas: Neftal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Mi oficina siempre esta abierta para tod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Les deseo éxito por que la suerte es para aquellos que la necesit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Todos ya son unos triunf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pentiumwc1"/>
          <p:cNvPicPr/>
          <p:nvPr/>
        </p:nvPicPr>
        <p:blipFill>
          <a:blip r:embed="rId1"/>
          <a:stretch/>
        </p:blipFill>
        <p:spPr>
          <a:xfrm>
            <a:off x="755640" y="4762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o import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unca dudes en pregun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iempre dedica tu tiempo a sacarle provecho a la vida, por que si no te puede pasar esto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itaporchat2"/>
          <p:cNvPicPr/>
          <p:nvPr/>
        </p:nvPicPr>
        <p:blipFill>
          <a:blip r:embed="rId1"/>
          <a:stretch/>
        </p:blipFill>
        <p:spPr>
          <a:xfrm>
            <a:off x="179280" y="189000"/>
            <a:ext cx="3067200" cy="396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itaporchat"/>
          <p:cNvPicPr/>
          <p:nvPr/>
        </p:nvPicPr>
        <p:blipFill>
          <a:blip r:embed="rId2"/>
          <a:stretch/>
        </p:blipFill>
        <p:spPr>
          <a:xfrm>
            <a:off x="5292720" y="333360"/>
            <a:ext cx="3468600" cy="41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tipico encuentro de conocidos por chat"/>
          <p:cNvPicPr/>
          <p:nvPr/>
        </p:nvPicPr>
        <p:blipFill>
          <a:blip r:embed="rId3"/>
          <a:stretch/>
        </p:blipFill>
        <p:spPr>
          <a:xfrm>
            <a:off x="3492360" y="3645000"/>
            <a:ext cx="3457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Espero que todos lleguen a la meta y puedan poner en práctica sus conocimi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elework.wmv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016360" cy="151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respuesta complicada"/>
          <p:cNvPicPr/>
          <p:nvPr/>
        </p:nvPicPr>
        <p:blipFill>
          <a:blip r:embed="rId2"/>
          <a:stretch/>
        </p:blipFill>
        <p:spPr>
          <a:xfrm>
            <a:off x="2843280" y="1628640"/>
            <a:ext cx="604836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Deseo ver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lospuntocom"/>
          <p:cNvPicPr/>
          <p:nvPr/>
        </p:nvPicPr>
        <p:blipFill>
          <a:blip r:embed="rId1"/>
          <a:stretch/>
        </p:blipFill>
        <p:spPr>
          <a:xfrm>
            <a:off x="1403280" y="1413000"/>
            <a:ext cx="64803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No deseo verl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helpfulkids.mpe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olitario sin compu"/>
          <p:cNvPicPr/>
          <p:nvPr/>
        </p:nvPicPr>
        <p:blipFill>
          <a:blip r:embed="rId2"/>
          <a:stretch/>
        </p:blipFill>
        <p:spPr>
          <a:xfrm>
            <a:off x="108000" y="765000"/>
            <a:ext cx="88218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04:58:36Z</dcterms:created>
  <dc:creator>Neftali Valencia Salazar</dc:creator>
  <dc:description/>
  <dc:language>en-US</dc:language>
  <cp:lastModifiedBy>Neftali Valencia Salazar</cp:lastModifiedBy>
  <dcterms:modified xsi:type="dcterms:W3CDTF">2007-09-11T16:29:36Z</dcterms:modified>
  <cp:revision>5</cp:revision>
  <dc:subject/>
  <dc:title>Bienvenida</dc:title>
</cp:coreProperties>
</file>